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gif" ContentType="image/gif"/>
  <Override PartName="/ppt/media/image9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800-A9CA-47DD-BE34-D1C0FC8A99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D69-FF84-48C3-8AB8-1BE6E5281CC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F23-C54F-422E-849C-AF20E30FA033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52E-A6EB-4200-9F75-023D44EC1881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131-54C2-4741-87CE-EE3E886B5120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FFA-551B-4B31-97DD-A78341B9ED2D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F49F-356D-4EC5-9523-CF8B2CD4BF8F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F33D-A4C1-470E-88FE-DFCC4147124D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16A-358A-4656-9A20-4D118B9075F2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BE7-F58F-4632-92BD-1394A5F2965F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68FC-8DB4-4CE2-9E82-8563ED71A2D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E41-2785-47FF-840C-6E38532E0261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798E-C5C2-4129-815E-7CA13C32ED5D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B76-1CBA-4A4C-9ACD-41074A28001A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1886-BAE8-4C0B-9495-C4111BB1C8D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050-FAD9-491D-87AA-1E127580DCC2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A0A-4B4C-4E2D-B157-C74A05D16C3A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D5CE-4B26-4491-B9C0-E20F9C1270DE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A081-6A2A-4129-B7F3-35F6829973C4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317-61C9-4E18-80B9-0AC70E164F72}" type="slidenum"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127-4344-404B-913F-C2F184D5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624-499A-452F-A880-ACB6FE8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7D8-301E-431F-A299-CD2A4975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707-BAFB-4ADA-856A-E054BF7B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4C29-277B-477C-940A-27FA929D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3B7-1A5F-4024-87BA-39DB5E46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F357-0617-4FDC-8D64-143DFA4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F78B-183E-4969-8028-DE288E6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A02-F205-424C-898C-AC623D5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76B-9E40-4AAC-988C-81DEF5E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C534-3D0F-4481-9796-204730F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F13-9122-4801-868C-B0044696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0625-8EBE-4657-ADC4-8C5E0050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C61C-F822-420B-B7CF-70D0D67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5154-841F-455D-935A-60F89E7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E3C-26B6-41C3-B4D3-B12D7427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1B2F-CD4F-47CF-92C3-654691C6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EB3-DB3B-4866-BAD4-84A89AE0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CB4-2E86-401E-B9BE-898FF9E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267-E667-4C49-8BF9-B1631C5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B99-D841-4599-AA8A-301E65BF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A4E-E9AA-4FAA-99FD-F2F4D3C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6DC-E3DE-40F2-97FD-7290861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FAE-2CD9-4E79-8656-BA9C40D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EE47-C565-4B3C-8664-BE3735788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527-C001-4E01-9335-F4B55E500A5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ore6.yimg.com/I/xenoline_1676_152833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Black"/>
              </a:rPr>
              <a:t>The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hapter 6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lkaline Earth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column on the periodic table. (Group 2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active metals that are always combined with nonmetals in natur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veral of these elements are important mineral nutrients (such as Mg and Ca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0" name="Picture 5" descr="j0198660"/>
          <p:cNvPicPr/>
          <p:nvPr/>
        </p:nvPicPr>
        <p:blipFill>
          <a:blip r:embed="rId1"/>
          <a:stretch/>
        </p:blipFill>
        <p:spPr>
          <a:xfrm>
            <a:off x="4648320" y="248112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ransition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s 3-12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Less reactive harder met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ncludes metals used in jewelry and construc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etals used “as metal.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3" name="Picture 5" descr="SY00057_"/>
          <p:cNvPicPr/>
          <p:nvPr/>
        </p:nvPicPr>
        <p:blipFill>
          <a:blip r:embed="rId1"/>
          <a:stretch/>
        </p:blipFill>
        <p:spPr>
          <a:xfrm>
            <a:off x="685800" y="2048040"/>
            <a:ext cx="1905120" cy="1990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j0128362"/>
          <p:cNvPicPr/>
          <p:nvPr/>
        </p:nvPicPr>
        <p:blipFill>
          <a:blip r:embed="rId2"/>
          <a:stretch/>
        </p:blipFill>
        <p:spPr>
          <a:xfrm>
            <a:off x="457200" y="4114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BS00590_"/>
          <p:cNvPicPr/>
          <p:nvPr/>
        </p:nvPicPr>
        <p:blipFill>
          <a:blip r:embed="rId3"/>
          <a:stretch/>
        </p:blipFill>
        <p:spPr>
          <a:xfrm>
            <a:off x="6553080" y="4343400"/>
            <a:ext cx="1839960" cy="1868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AG00534_"/>
          <p:cNvPicPr/>
          <p:nvPr/>
        </p:nvPicPr>
        <p:blipFill>
          <a:blip r:embed="rId4"/>
          <a:stretch/>
        </p:blipFill>
        <p:spPr>
          <a:xfrm>
            <a:off x="7315200" y="2514600"/>
            <a:ext cx="1557360" cy="1722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j0127290"/>
          <p:cNvPicPr/>
          <p:nvPr/>
        </p:nvPicPr>
        <p:blipFill>
          <a:blip r:embed="rId5"/>
          <a:stretch/>
        </p:blipFill>
        <p:spPr>
          <a:xfrm>
            <a:off x="6553080" y="1371600"/>
            <a:ext cx="2106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Boro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3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uminum metal was once rare and expensive, not a “disposable metal.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0" name="Picture 6" descr="j0281756"/>
          <p:cNvPicPr/>
          <p:nvPr/>
        </p:nvPicPr>
        <p:blipFill>
          <a:blip r:embed="rId1"/>
          <a:stretch/>
        </p:blipFill>
        <p:spPr>
          <a:xfrm>
            <a:off x="4648320" y="2819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rbo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4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tains elements important to life and computer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arbon is the basis for an </a:t>
            </a: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entire branch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of chemistry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ilicon and Germanium are important semiconductor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3" name="Picture 6" descr="BD09250_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Nitrogen Family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5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itrogen makes up over  ¾ of the atmospher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itrogen and phosphorus are both important in living thing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ost of the world’s nitrogen is not available to living thing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he red stuff on the tip of matches is phosphoru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Picture 6" descr="j0199203"/>
          <p:cNvPicPr/>
          <p:nvPr/>
        </p:nvPicPr>
        <p:blipFill>
          <a:blip r:embed="rId1"/>
          <a:stretch/>
        </p:blipFill>
        <p:spPr>
          <a:xfrm>
            <a:off x="762120" y="4191120"/>
            <a:ext cx="1703160" cy="2050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j0131765"/>
          <p:cNvPicPr/>
          <p:nvPr/>
        </p:nvPicPr>
        <p:blipFill>
          <a:blip r:embed="rId2"/>
          <a:stretch/>
        </p:blipFill>
        <p:spPr>
          <a:xfrm>
            <a:off x="685800" y="1600200"/>
            <a:ext cx="3809880" cy="2955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293564"/>
          <p:cNvPicPr/>
          <p:nvPr/>
        </p:nvPicPr>
        <p:blipFill>
          <a:blip r:embed="rId3"/>
          <a:stretch/>
        </p:blipFill>
        <p:spPr>
          <a:xfrm>
            <a:off x="3164040" y="4648320"/>
            <a:ext cx="920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Oxygen Family or Chalcogen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6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xygen is necessary for respira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Many things that stink, contain sulfur (rotten eggs, garlic, skunks,etc.)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1" name="Picture 7" descr="j0177947"/>
          <p:cNvPicPr/>
          <p:nvPr/>
        </p:nvPicPr>
        <p:blipFill>
          <a:blip r:embed="rId1"/>
          <a:stretch/>
        </p:blipFill>
        <p:spPr>
          <a:xfrm>
            <a:off x="5791320" y="464832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j0208320"/>
          <p:cNvPicPr/>
          <p:nvPr/>
        </p:nvPicPr>
        <p:blipFill>
          <a:blip r:embed="rId2"/>
          <a:stretch/>
        </p:blipFill>
        <p:spPr>
          <a:xfrm>
            <a:off x="1066680" y="472428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j0140627"/>
          <p:cNvPicPr/>
          <p:nvPr/>
        </p:nvPicPr>
        <p:blipFill>
          <a:blip r:embed="rId3"/>
          <a:stretch/>
        </p:blipFill>
        <p:spPr>
          <a:xfrm>
            <a:off x="5029200" y="1752480"/>
            <a:ext cx="32004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Halogen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7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reactive, volatile, diatomic, nonmet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ways found combined with other element in nature 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as disinfectants and to strengthen teeth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6" name="Picture 6" descr="HM00389_"/>
          <p:cNvPicPr/>
          <p:nvPr/>
        </p:nvPicPr>
        <p:blipFill>
          <a:blip r:embed="rId1"/>
          <a:stretch/>
        </p:blipFill>
        <p:spPr>
          <a:xfrm>
            <a:off x="6324480" y="3733920"/>
            <a:ext cx="2490840" cy="2554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SO01580_"/>
          <p:cNvPicPr/>
          <p:nvPr/>
        </p:nvPicPr>
        <p:blipFill>
          <a:blip r:embed="rId2"/>
          <a:stretch/>
        </p:blipFill>
        <p:spPr>
          <a:xfrm>
            <a:off x="4648320" y="1219320"/>
            <a:ext cx="3809880" cy="2517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HM00232_"/>
          <p:cNvPicPr/>
          <p:nvPr/>
        </p:nvPicPr>
        <p:blipFill>
          <a:blip r:embed="rId3"/>
          <a:stretch/>
        </p:blipFill>
        <p:spPr>
          <a:xfrm>
            <a:off x="44197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Noble 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40" name="Picture 10" descr="j0116683"/>
          <p:cNvPicPr/>
          <p:nvPr/>
        </p:nvPicPr>
        <p:blipFill>
          <a:blip r:embed="rId1"/>
          <a:stretch/>
        </p:blipFill>
        <p:spPr>
          <a:xfrm>
            <a:off x="2743200" y="1600200"/>
            <a:ext cx="365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Noble Gas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lements in group 18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unreactive, monatomic gas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in lighted “neon” sign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sed in blimps to fix the Hindenberg problem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ve a full valence shell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43" name="Picture 7" descr="xenoline_1676_139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64200" y="1981080"/>
            <a:ext cx="277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64f8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4f8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Why is the Periodic Table important to me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he periodic table is the most useful tool to a chemis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You get to use it on every tes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t organizes lots of information about all the known elemen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Picture 5" descr="PE03774_"/>
          <p:cNvPicPr/>
          <p:nvPr/>
        </p:nvPicPr>
        <p:blipFill>
          <a:blip r:embed="rId1"/>
          <a:stretch/>
        </p:blipFill>
        <p:spPr>
          <a:xfrm>
            <a:off x="685800" y="203688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re-Periodic Table Chemistry …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as a mess!!!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o organization of element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agine going to a grocery store with no organization!!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Difficult to find information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hemistry didn’t make sense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Picture 5" descr="j0168366"/>
          <p:cNvPicPr/>
          <p:nvPr/>
        </p:nvPicPr>
        <p:blipFill>
          <a:blip r:embed="rId1"/>
          <a:stretch/>
        </p:blipFill>
        <p:spPr>
          <a:xfrm>
            <a:off x="4979880" y="2438280"/>
            <a:ext cx="347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Dmitri Mendeleev: Father of the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Arial Narrow"/>
              </a:rPr>
              <a:t>HOW HIS WORKED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Put elements in rows by increasing atomic weight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Put elements in columns by the way they reacted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Arial Narrow"/>
              </a:rPr>
              <a:t>SOME PROBLEMS…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e left blank spaces for what he said were undiscovered elements.  (Turned out he was right!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e broke the pattern of increasing atomic weight to keep similar reacting elements together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3" name="Picture 5" descr="j0226622"/>
          <p:cNvPicPr/>
          <p:nvPr/>
        </p:nvPicPr>
        <p:blipFill>
          <a:blip r:embed="rId1"/>
          <a:stretch/>
        </p:blipFill>
        <p:spPr>
          <a:xfrm>
            <a:off x="990720" y="44956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Current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endeleev wasn’t too far off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ow the elements are put in rows by increasing </a:t>
            </a:r>
            <a:r>
              <a:rPr b="1" lang="en-US" sz="5400" spc="-1" strike="noStrike" u="sng">
                <a:solidFill>
                  <a:srgbClr val="333333"/>
                </a:solidFill>
                <a:uFillTx/>
                <a:latin typeface="Arial Narrow"/>
              </a:rPr>
              <a:t>ATOMIC NUMBER!!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horizontal rows are called periods and are labeled from 1 to 7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vertical columns are called groups are labeled from 1 to 18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roups…Here’s Where the Periodic Table Gets Useful!!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Elements in the same group have similar chemical and physical properties!!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(Mendeleev did that on purpose.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Why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They have the same number of valence electron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They will form the same kinds of ion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amilies on the Periodic Tabl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lumns are also grouped into familie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amilies may be one column, or several columns put together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amilies have names rather than numbers.  (Just like your family has a common last name.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1"/>
          <a:stretch/>
        </p:blipFill>
        <p:spPr>
          <a:xfrm>
            <a:off x="5345280" y="1981080"/>
            <a:ext cx="2414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Hydroge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belongs to a family of its own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is a diatomic, reactive gas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was involved in the explosion of the Hindenberg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ydrogen is promising as an alternative fuel source for automobile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4" name="Picture 24" descr="Hindenburg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lkali Metal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Arial Narrow"/>
              </a:rPr>
              <a:t>st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column on the periodic table (Group 1) not including hydrogen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Very reactive metals, always combined with something else in nature (like in salt)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oft enough to cut with a butter knif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7" name="Picture 5" descr="j0232578"/>
          <p:cNvPicPr/>
          <p:nvPr/>
        </p:nvPicPr>
        <p:blipFill>
          <a:blip r:embed="rId1"/>
          <a:stretch/>
        </p:blipFill>
        <p:spPr>
          <a:xfrm>
            <a:off x="4648320" y="2325600"/>
            <a:ext cx="38098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1:52:15Z</dcterms:created>
  <dc:creator>Inst</dc:creator>
  <dc:description/>
  <dc:language>en-US</dc:language>
  <cp:lastModifiedBy>jluckey</cp:lastModifiedBy>
  <dcterms:modified xsi:type="dcterms:W3CDTF">2010-12-01T17:34:13Z</dcterms:modified>
  <cp:revision>6</cp:revision>
  <dc:subject/>
  <dc:title>The Periodic Table</dc:title>
</cp:coreProperties>
</file>